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81F-99E9-4165-AA34-BEF862F3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F3C-59FE-4A05-97DE-8A2CA2D9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B65-3354-4B8E-8D46-493723AB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31E-220A-435A-BD4E-21B95949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8010-397E-4798-9E61-73783798D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C190-D666-4692-9B67-F7618A40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7E4F-98AD-4616-8CA7-E9CC9278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9EEB-A02E-4465-B175-8B8B3E31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FCEE-E001-431C-9F4E-256FA575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64C0-DABA-4053-B634-6546C7D7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13FC-8B6B-497A-BB12-A7EED99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6E0-DD04-4485-AD04-96357B42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771B-E9A5-47D3-82CF-1A468AEF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D4FD-95CD-40CA-A709-91BCA1BF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DA94-C36B-48CB-9A19-E82BA93C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ABBD-4487-47D7-B698-7DD75E9E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3E48-E26D-415E-AFBF-E2B494EF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257EF-F3DC-44FC-A84C-AAB37805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ABDD3-64E6-4C30-88CB-960E3B03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7F95-4BE0-4194-A558-07F1D6C0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9FEE-DDFC-4E84-A627-94B62FC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13BC9-5DF0-4996-9D6F-CD09D69A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A46A-4844-4472-8E91-FDF25C82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81E57-9F77-4FC2-9465-A403606F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2D67-60A5-4C9F-A3E8-229B9EB9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336D6-1622-4603-A224-87188B1D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53CCB-59A9-451A-9130-7E8EF088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6B71-02CD-4B13-BEF6-DA78CF7D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79DE-C2A5-4368-8E1F-990E0F24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3C63-7EBE-418F-9B69-7226F5CD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822A-AE1E-469D-8901-FD5C7D08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607DE-4265-42E3-9FC8-5AB3B332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E060-E3AE-4338-986A-D9F37E94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03F8-CB26-447E-8F08-F215B344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D577-A733-4BF2-A6EF-7581F45F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40515-6DE9-4C00-9B55-783D29E4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E1B03-DF79-48A1-BAA1-0206020B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CE6B4-8683-460B-BB07-2542990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DC5C-2CF1-405D-A33F-3C64A264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E5F33-9A12-4802-A49E-1C983152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0D8F-8448-43DB-97D5-437237A1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A75E6-2C68-468F-BBDC-8B70E1BB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6222-B29B-4521-AF90-B4E12855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0CDC1-171B-4C34-AF83-23F45E42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382-C44B-4EB3-BE9E-2BC62292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F0F78-B426-44E6-8276-8A06A242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FA394-D70B-473B-A721-2F78A80C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C0DA0-E2CB-4BB1-B7E0-2B1B0E52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4EAB3-FE8A-42B6-8E5E-2505B700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F5E85-AE6E-4C50-B37B-57D815AC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504AE-B8C8-4F73-A734-CA3C1A8B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3FE71-68FC-48F1-8A0B-8A42C63C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ACB64-08EF-440B-A43F-D7AEDFB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6429D-31BB-4FF7-B853-247A62FD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09EF0-1C22-4569-830B-9871AFAF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98F-D2C5-4FEF-917B-31C49862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1146-9C00-4009-81F7-D857E8AD6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48C07-E96F-43DE-87B6-70AF9559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C4560-A867-4EAB-A407-711FB874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26BC4-8E46-4E10-9782-3E372611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8E931F-FA7C-4EC4-A5F5-2D11DD7E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6DAAB-0B24-45A4-9B3B-942C3BEC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1276E-C256-4C19-9F41-DC8A1359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FAEE9-C03C-439A-A4FF-17A66583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C4536-C006-4650-AA4D-323716FF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206AC-7C72-49EA-B5AC-08570F85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EFB-04A8-4C7E-97B5-2D01EBE8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0E058-718C-4F46-ACC0-28C4E297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8C2BB-6447-4F56-8415-DBBF96ED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FAC5A-744D-4732-ADA5-03DDC2D6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8E1E5-750C-486F-BA09-1BF2BABD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1E149-301C-47EC-A3EE-F1A60E05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55A4C-E94D-4564-9BAA-28043180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91AA9-6DFC-408E-B467-6E5BAFB1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52E6-AF9C-4B1C-A774-4EBBD1E6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BE4D-19CC-463D-9B26-90318C0C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95B7-F6F5-43F2-8AFC-51663368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720-AA9A-497A-86A6-FA6D1AF3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766D-F8A4-4F18-8ACE-28B44E33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69F7C-2716-4B62-ACA2-4682586D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F333E-3570-410A-81A5-28AA0D48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6A4D26-778D-44C9-AE1D-1A0C59A3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18657-3E2C-44E5-837B-B7F68F4B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0A4-FC43-4079-AC9E-38BE2C2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321E-5902-43ED-B596-B4527C18C7E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D95-83D8-4874-B4CF-884F8DD5647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4E8-AE82-45D1-A83F-563E6654B53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3807-B0A6-481E-B220-8601AFE339A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48C7-7D1D-40CE-9CA4-E9B1A060585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B033-115D-42F0-8117-16FCDE924DF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7FD0-41CE-4F04-BEAD-3E0C8B8B308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228600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2314"/>
                </a:solidFill>
                <a:latin typeface="Gill Sans MT"/>
              </a:rPr>
              <a:t>MCPS K-12 School Counseling Program</a:t>
            </a:r>
            <a:endParaRPr b="0" lang="en-US" sz="60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are working on now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904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leted final program document draf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ed to all counselors Oct 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to T&amp;L Committee Nov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we are heading…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ll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diness Survey completed by all district and Hellgate Elementary school counsel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inter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liminary protocol for new students –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roll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essment of student abil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ere we are heading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12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plan to school counselors and principals for transitioning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t  to T&amp;L committe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ition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12 School Counseling Comprehensive Program Docu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tablish District Advisory Counc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– first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et annua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ig Pictur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chool Year 2012-201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-going training of all feeder school and district school counselors throughout the ye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ring 2013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roduction of comprehensive school counseling program to all staff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lementation of school counseling guidance curriculum in all schoo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gend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elcome and Introduc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imeline of K-12 Comprehensive Program Develop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have we don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at we are doing now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re we are headed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adiness Surve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os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8960" y="114264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The WHY – </a:t>
            </a:r>
            <a:r>
              <a:rPr b="0" lang="en-US" sz="4900" spc="-1" strike="noStrike">
                <a:solidFill>
                  <a:srgbClr val="572314"/>
                </a:solidFill>
                <a:latin typeface="Gill Sans MT"/>
              </a:rPr>
              <a:t>our guiding question…..</a:t>
            </a:r>
            <a:endParaRPr b="0" lang="en-US" sz="4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142640" y="3352680"/>
            <a:ext cx="7497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re students different by what we do?”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ounselor Leadership Tea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aron Shattuck – Sentinel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Angela Opitz – Rattlesnak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onnie Fergerson – Willard Alternative High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School Program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atie Cook – Hellgat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hristine Kolczak – Hellgate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Erica Zins – Russell/Lewis &amp; Clark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Katie Boynton – Hellgate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arolane Stevenson – Big Sky High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chelle Stearns – Porter Middle School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Mike Perry – Hawthorne Elementary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19810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2314"/>
                </a:solidFill>
                <a:latin typeface="Gill Sans MT"/>
              </a:rPr>
              <a:t>What is a Comprehensive School Counseling Program?</a:t>
            </a:r>
            <a:endParaRPr b="0" lang="en-US" sz="5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434960" y="152280"/>
            <a:ext cx="74995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CPS School Counseling Progra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school counseling program is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mprehensive in scope, preventive in design, and developmental in natur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  The MCPS School Counseling Program reflects a comprehensive approach that begins with a foundation, upon which delivery, management, and accountability systems are integrated.  It is designed to enable all students to receive program benefit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omprehensive in Sco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comprehensive school counseling program focuses on what all students, from kindergarten through 12th grade, should know, understand, and be able to do in three domains of student development: academic, career, and personal/social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reventive in Desig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purpose of the school counseling program is to impart specific skills and learning opportunities in a proactive, preventive manner, ensuring all students can achieve school success through academic, career, and personal/social development experienc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evelopmental in Na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CPS’ School Counseling Program is designed to meet the needs of students throughout various developmental stag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815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have done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371240" y="1218960"/>
            <a:ext cx="7497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inter 2010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ll school counselors assess their duti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chool Counseling Leadership Team built background knowledge of American School Counseling Association’s,  ASCA, national mod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Spring 2011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uilt Found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veloped Mission, Beliefs, Philosophy, and Standar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ought all school counselors in the district together to share and build sup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we have done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5998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mmer 201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ed Hellgate Elementary Counselor to Leadership Te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Learning Targets for grades K-12 in all 9 Stand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ki Boot ca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outline for final doc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eloped timeline for next ste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20:10:03Z</dcterms:created>
  <dc:creator>eazins</dc:creator>
  <dc:description/>
  <dc:language>en-US</dc:language>
  <cp:lastModifiedBy>eazins</cp:lastModifiedBy>
  <dcterms:modified xsi:type="dcterms:W3CDTF">2011-10-25T17:37:01Z</dcterms:modified>
  <cp:revision>24</cp:revision>
  <dc:subject/>
  <dc:title>K-12 School Counseling Program Time-Line</dc:title>
</cp:coreProperties>
</file>